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562-5B53-4113-A911-848B6D2E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186-1186-4386-8A57-1A86CE3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C59A9-FA67-4D99-A0E8-B575C050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FB989-D67E-4F67-ABD3-9398B29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A4BD4-C06C-458B-91C2-AC249FC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242C6-D5E7-42D9-B090-040038C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4DE31-2354-425F-966B-8A624D26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B2DB-CFC4-40D7-B68A-F51C1F1F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3DF44-887B-4F50-A05D-618891FC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1162D-A14A-4FFC-845C-25537826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C1CD7-C4DA-43AA-9D98-9BA7CE26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8C77B-ADFC-4F90-BD17-C09C0F00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A3D-A27D-4F75-87BA-709EEB73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0F2F9-A717-4CBD-912C-68E95F5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6B295-988B-408D-8253-944EFD15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2BA2D-753E-43D1-BEBB-13050DE5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227D1-D975-4172-94E6-E615439C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D6334-A891-4AE5-9FA9-B9D536D1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A755-1827-443C-B721-DBFC4EE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3A6EC-E64F-4852-8F46-8A59F40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C1DE-DF97-49F7-9B0D-DC3FAC4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693A-44E3-422A-8E5D-F4F590E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0E73-4348-420B-B26D-7115AAD4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233-21DE-44C5-94C0-ADB6FD2D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9BB76-0902-49F1-A91C-BDB250AE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0FED-9195-42D7-BE43-86C946BC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F8E4E-5E7F-4103-8B67-05E3FD3A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CA4FA-3DCB-40CE-86B6-C7DA0345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C56D-5529-4554-BD92-355421C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A2246-F290-40AA-86B3-4BA2E495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B1AC1-0164-4481-B539-8138B873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D5DC8-3ECE-4233-A783-6C4ECED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B0B4-44CC-435F-8397-DE59A58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B6DD3-A2A7-4D99-8AAB-A85B137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0C6-8DCD-49C0-BCEC-9D3EF565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9A1D0-DF15-4FF0-88F8-57E1DDB3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8D2F7-6192-4B55-A20F-9085243E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C433D-5354-4C0A-84E2-B5194FD5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881BC-CD76-44C0-BC16-AB5F474D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932D9-C04D-4B67-BD75-38522DA3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7695F-6F71-4537-9365-C5080152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38281-D110-4AA3-95C0-46E75056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A8E29-332F-446B-B38D-FCA05E3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5F3C0-D9ED-4FB9-95E2-6BEAC6BD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4C4C8-FE21-43D4-AC14-D2BD8DA4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492C-7404-4762-AC48-619B2B4F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FE513-7E01-47D0-9121-B73D728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24AE4-41D1-4EA2-ADDB-7EAB4EF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A086B-CB4E-4536-B1B9-1902353D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228C8-14FA-4843-810D-2BA2D3F5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F5DA9-39B8-438C-8877-CF4AA57B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B8F60-B11F-46B7-9043-5DC29C2E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75767-1FBE-4342-80CC-E1E9A5D5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426D6-7331-4A0F-805C-544B9E5C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DF951-2E4B-4F6D-BAC7-63254B54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3EC00-2FCE-4158-9341-9911179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3A73-EBAF-4E16-BBE1-B8D1811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77B18-86B4-42F5-91A5-C78D388A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F6702-4CC4-407C-A9BC-7041049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10C47-1044-4A41-AEA9-2CB1493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AB193-4E49-4BE3-B16B-949ACD5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EA072-1A53-4A92-B850-EEFA060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D29B5-9C3A-42DA-8CFC-CC6B9193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372DE-352D-4F13-8295-39EECFC3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086DF-5621-4894-8E2B-16C34256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2D99B-9284-4264-832A-E33E3E3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121AF-B5C9-4621-B1C2-001ECF82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4D59-2928-4873-97CD-94A9D4E0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16E13-F20D-43C1-916A-B1517192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96D1D-97D9-4A7E-8D6F-656940C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928C8-5FCD-4D83-8693-06731CC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03D70-D367-4D05-A4F6-BD713C6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4540E-AB78-4161-A4D0-B99A2C7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B9B6B-F0BF-43E8-BCCF-D3A9895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AFBBE-FBB1-4C92-9E28-07E10A2C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BDAA0-DA04-4DC6-9261-C344E959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4FA6B-447D-4A2D-A013-42ABF457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82895-0EA0-4F22-9996-CE828DEA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49B7-2C9B-4B1F-9B65-95ACE5DF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18251-BB90-4892-BCE7-5E56FEDD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90D89-72F3-4405-AADC-24EB11E0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92895-FE7F-4D21-A790-DCF993B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C02C6-124C-43C3-B235-257A3AB0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3684E-A0D0-4FD9-B88E-E5105896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E5747-A888-489E-B69F-2276684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AA354-24B4-42F1-ADE7-872416A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49579-156F-4F46-AC17-20E158F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6D185-5351-4E10-85F6-D8E0B79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50377-FE0C-4206-A34A-1AAA58BB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0A40-2406-4BB0-AA41-DDDBA0EB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F5FA2-117C-420B-9791-D0F44600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DB0AD-EEC7-4AA5-9913-C8B95D43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7D1FD-7C4B-4567-82A8-030F9D8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5C1F0-F436-4E53-BAC4-A39DD6E2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D05B2-B6D6-43CF-98D6-3BD48B4B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99607-A01F-47CF-BDB6-F2C429B2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C4114-917A-4AD7-BA59-1759964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23F0F-5D26-496B-B9AA-9F06B47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54100-22C3-4FB0-93C0-1E3C105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50A5F-003F-49A2-BE1B-E841F26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3337-6C29-4765-B101-3E8F207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10793-0CC6-486E-ADFB-25A1922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1CEC9-EC83-40AB-8E7B-579D9376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71B70-F47B-4DF0-9669-E82F654C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D6667-4658-497B-8BF8-8A0BBB97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6642C-AAF2-4F37-B3D1-B1C4D26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1A30D-4F36-443C-BAFF-FB6DE5D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71BDC-21AF-4F23-8699-40B754D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982CF-EE4F-41B2-A9E6-F486C48D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C72CB-6786-402A-A6FB-CCA87EB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C89A3-F3CB-4747-A687-3878030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7E2-5D07-4C24-A2B0-ED9EDCEF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BF62-7C36-4E2A-B2FF-89A056E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02E8C-7FAE-4F53-ADA8-6EE3A05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7F435-472B-41D0-9923-1F7F535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04D8F-D746-4BAB-B66E-1532F459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A8205-5D02-461A-B44F-3233477C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5F3CB-994F-4473-BCB0-43AAF55C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CA373-EEC4-4406-BF50-FE83A1B8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34374-1199-4B2D-82FD-95883D5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275A9-935A-4BA8-ADB8-EF1505D3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575D0-F594-4E3A-AFEB-156D1460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1F551-61FF-417C-8A3F-3626DE1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9435-1BB3-48A5-82C8-9149140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62733-AABA-41D0-9E6C-C9585149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65543-BD7A-43B8-9ABB-0E83ADB3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94FD8-2407-41B1-A77E-74A0ABC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9667D-BAEF-4A4A-AD47-B818C7B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4281A-E4F9-4185-9DED-27422AEF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9B4F5-0B30-4E52-82AF-7F98A61A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04221-AF54-4552-9953-15CCBBF5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3959D-F145-429D-9EDD-09C422E3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F9F9B-BC1A-446B-8E9D-6C16B168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70539-32AA-4316-8FB5-A7058D18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1CB2-9B7B-4EB7-8410-6C2FDEA2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C4EC6-AB84-416A-AC2F-BD4014D4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E7AC0-82E2-44B1-89F6-2F8FDF37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C3CEA-B9B9-4DF6-9F1C-26FC744E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DE433-AE74-434E-BC34-FE654DE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DE920-9E3F-4769-B3E5-2C44FC7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3E6D2-F641-4702-9FB0-550C943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A128F-C78E-40BC-BAAB-9F7947D4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0DDC2-7714-47CC-B73E-F9F52D05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BBDEE-F20B-4EE8-B1F1-F73D87DB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CB19B-D030-4FA2-A3BF-7CD2AD2F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464E-F08C-4026-9406-DBE2C7A5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391B6-3FFB-4CAB-A677-2B98BA8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B0095-3F9E-4959-93C3-F2E8CC61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11E05-FCBA-4BFA-8483-D89544D7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B5DDF-0E94-4FF3-A7D1-BAD8205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1409B-52FB-499B-8A31-BB12BF1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8980E-894C-4A00-B9E8-81E2E17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C377C-A3F3-4A7A-B745-4C5D12B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329B5-0A10-4EB1-BA94-34E20E3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616D8B-BBB1-4E4D-BA95-6A67824B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0E1D8-3311-4306-B98E-C082EB1D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A966-7036-4AF9-B44D-65238ABE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87E98-E3D7-49E8-A833-B4016A46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42221-45F8-468F-B0E2-EBE1B123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9260F-203B-4407-A129-46392338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0816E-22CE-4CBB-8822-7D6BF86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6F688-7D35-4BEB-870E-94A1B7AF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C5C5C-AD5D-4173-92C2-8144BCFB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F5698-15FD-4ACD-AFF5-9C72B11F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A684E-9E73-4F96-8D1E-44057C7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7440D-5B69-47EE-96CA-ECBA26B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3B7EC-BF44-42BA-94C5-FD0D1D67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8735-3F0F-4326-8FAB-8AF9186E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BCFAF-044C-4DAD-B604-27506232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D08F2-CFB2-4D9E-AFC6-369C2FB9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5D9D1-463A-4F1D-A72B-1648F93B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A0E3C-B89F-4796-9D26-1FBD4215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C617-643A-418B-ADD8-13ADE764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F292-74B7-48BC-9B7B-D3FEEDE9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02D1-29D4-44B3-91EA-47D98128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0A1-5146-4B65-9249-0E06CC3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4C37-5A3F-4CAD-9EC1-D480A5D7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6BE7-D645-474A-8385-3090207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3B40-9301-47D2-BA93-CD40F2DF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8BC8-7242-4DDA-B6E7-6947DCA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6EDF-46AD-4A6E-AD12-0E42820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5A5B-2181-4E68-B6D0-EF99B401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3593-3B2C-46B6-BF3F-F53C144E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DBBF-64EA-4B2F-8DBD-9BF003E6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D905-7731-4C71-B266-23BE7149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B2747-3660-46F0-A75A-93ED822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D9D-E5B2-43C4-9541-C38C049C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3F41-24ED-4885-AB47-0AE1504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DD7E-446A-4570-831B-1E836B9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8F5F-2788-4878-B5F4-A8BDD24B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1D62-8948-4A46-BE41-125B6AB4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1B10-C1AD-43CA-BBCC-9DD3B63F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98F6A-26D3-4602-8D7F-E1205BD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537B0-F6D6-4440-97B4-5481CAB6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BC735-C7C6-4CD6-8ED6-D0D4A578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5F43-6CB1-441F-BD20-40971082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BD1C6-927B-4CAB-A7F9-6FC0A5B7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8F0-C810-403E-A32F-E975A96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E8063-3AE5-4B9A-B66D-7FD4FF61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33CF-BD38-4DBC-950B-71BDE579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4C62-49EB-4C5E-B190-F02FA3BC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8B86-128E-4369-BD93-5F0C0FA7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F0CA7-2531-4C92-A256-6584CE8B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C9DC6-1E70-4EC6-A710-F4DF849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F439-EA05-406F-966D-DA3D6B46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E088-1A39-46ED-958C-2CF4665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0894F-33DB-47C2-B479-4FFC3AF5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29AC2-345E-4474-8F79-C1732DCE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BD4-6EE0-4432-AE1A-2DA30C79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1F14-C247-423F-9707-6D0D6A84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39990-6564-4291-A90E-8FE6827F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6AB9D-3317-4B14-ACF0-7768A79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814E6-05E9-4115-B9B5-6BE8B931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4A36-FBFF-4684-BFD5-B81812E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A6C6-3A07-4DC7-A9F7-3AB4D060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7034-D67E-46A6-A9EC-A564F9F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C50A-D4D3-44A9-9372-8510035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FB8C9-94D6-4B48-BDA7-083E64F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DC316-ACFA-453F-8261-2D8DC526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D7F-6BAF-42C5-BE3B-CF50E932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130D3-8E1C-4923-AC13-9BB17C0B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0A1CA-7C24-4AD6-A9F9-9CF9F5B7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0C8C-37C0-4068-B55B-4982BD3A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89F99-C419-4AC4-97E0-FFD1835C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1B06-F88C-46E1-B69C-762142A6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F01E-976A-4D95-88DF-285DC3E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06EB-E568-45AD-9C51-A1FD72E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0D26-C970-478F-9A6B-2B04600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C0A6F-796A-4745-9C2B-D768D3C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815D-BA24-4900-BB2C-47A87F2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836-E556-4DD2-9A6A-BD8BF881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9998-CEC3-4DC0-9DC9-13C2164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1448-9782-4A9C-AD85-DE37E9E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90EF-8703-4A43-B9E7-445780C6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AF305-9BF1-469E-8060-EC733AFE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DD88-2D36-44A8-B6E6-D2D0671A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084B-C268-4BC6-B309-ABC066EE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852F6-EB53-44D0-881F-291855B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CF403-1D72-468E-A892-9A33941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441F6-D16B-4A6E-A15D-B12D122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B3C9-2178-4F75-9D15-568C477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44E-E2C1-415F-9548-204D54C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7993D-BE69-4410-B2FE-FE9967C7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BD6E-F280-4B57-9CF7-F8DE111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CEC04-802B-4966-AA9C-58DC95F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9C3D-D439-4A6F-8984-841E795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4ACCC-04E9-4923-83CA-3147F7C7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5F6E-6978-486A-9ABE-7F9CA11C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0BCE-7A92-469B-99DF-FA0C1EE0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3EA29-9DAE-46D7-8BC5-5536F236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DFC76-F489-4C46-9D66-06027560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2168A-67C2-4EEE-ACE6-80D0A55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6BD4-DFFD-4ED3-9DF1-379040582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A283-DC7A-4C9B-876C-AE6A84EE8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E626-C3D7-413B-81B9-D4A7FF23CD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1DCA-8928-4217-85E6-27E131C1F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EDAA-0C51-40F9-A07C-EFD95F77F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D232-846E-41DD-BC3F-1016D5D47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754-A6F0-4DB8-96F1-8D589398F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32DF-F871-4EDE-9C2D-530C671DFF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64E-310B-4E98-99D3-84F9822B9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27FD-175C-4CAF-8BA1-B7D12A935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944-4D75-4A40-9EC0-6EE1F9FA3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1E6-40CD-4ECC-A731-EC434BD97E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243D-09B5-40A5-95EE-5D708FDFE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026-09D6-4C70-BBB2-DBC633C4B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D268-2B55-4880-AE61-5B5CB43203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11F6-F5D5-432B-BF34-1589E4A92B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1FAB-DA16-4CF0-82D4-D0E479774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00B-FFA5-4240-AF1C-300B8E12F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7956-590C-45A6-851D-C705A5AE5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0695-8757-4291-9E9A-F75897152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0C2D-2A71-4BD3-9E8A-A386DBD67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006B-C260-4F90-A407-BE231762E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8750-8701-4D90-A539-DABAE4E58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6CA-7346-4F84-8A6E-16D5D636F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1AED-5C5A-41FE-963F-0EDD8D663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9E2-E6FA-4142-83C0-CF0092F77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AD2F-41BB-4354-B7F1-F9EEB655F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59A-9131-4F26-B32D-5A42CA64E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B00F-77A6-4CE8-AD12-D5FE0FB2F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651A-9492-4022-B7D4-064519038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3D08-6FE0-4E26-A5C7-6669F0618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B611-3FE0-4F5A-8297-A4F500F72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F1C5-957B-4387-8260-A4942E41D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FE55-8299-4046-BC68-671E6AC859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A941-1CDB-468F-83F7-2CC1CCF100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7562-8998-48BB-90F6-9BE0EF904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D8A-74B6-443D-A6BB-6FDD3387F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4D49-4E6F-48FF-B16B-E049F17655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ED0-8241-4885-BF25-639EA0191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1E9F-099E-4BC0-BD5D-3220BFE8A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695600" y="3214800"/>
            <a:ext cx="5091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324000" y="1438200"/>
            <a:ext cx="8496000" cy="4419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1760400" y="3143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1874880" y="3622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3832200" y="3143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3946680" y="3622680"/>
            <a:ext cx="37908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5911920" y="312588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6026040" y="36050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7947000" y="31068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8061480" y="358632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2143080" y="500076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5000760" y="50007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3714840" y="5518080"/>
            <a:ext cx="157140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7858080" y="500076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6572160" y="5518080"/>
            <a:ext cx="15717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1" descr=""/>
          <p:cNvPicPr/>
          <p:nvPr/>
        </p:nvPicPr>
        <p:blipFill>
          <a:blip r:embed="rId1"/>
          <a:stretch/>
        </p:blipFill>
        <p:spPr>
          <a:xfrm>
            <a:off x="757080" y="1157400"/>
            <a:ext cx="7629840" cy="5200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" descr=""/>
          <p:cNvPicPr/>
          <p:nvPr/>
        </p:nvPicPr>
        <p:blipFill>
          <a:blip r:embed="rId2"/>
          <a:stretch/>
        </p:blipFill>
        <p:spPr>
          <a:xfrm>
            <a:off x="8001000" y="4714920"/>
            <a:ext cx="638280" cy="1847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3"/>
          <a:stretch/>
        </p:blipFill>
        <p:spPr>
          <a:xfrm>
            <a:off x="2428920" y="2714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4"/>
          <a:stretch/>
        </p:blipFill>
        <p:spPr>
          <a:xfrm>
            <a:off x="3286080" y="272088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5"/>
          <a:stretch/>
        </p:blipFill>
        <p:spPr>
          <a:xfrm>
            <a:off x="4106880" y="2714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6"/>
          <a:stretch/>
        </p:blipFill>
        <p:spPr>
          <a:xfrm>
            <a:off x="4937040" y="2714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7"/>
          <a:stretch/>
        </p:blipFill>
        <p:spPr>
          <a:xfrm>
            <a:off x="5794200" y="2714760"/>
            <a:ext cx="35748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8"/>
          <a:stretch/>
        </p:blipFill>
        <p:spPr>
          <a:xfrm>
            <a:off x="6651720" y="2714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9"/>
          <a:stretch/>
        </p:blipFill>
        <p:spPr>
          <a:xfrm>
            <a:off x="7472520" y="2714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10"/>
          <a:stretch/>
        </p:blipFill>
        <p:spPr>
          <a:xfrm>
            <a:off x="1185840" y="3929040"/>
            <a:ext cx="6591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833400" y="957240"/>
            <a:ext cx="7096320" cy="18288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2" descr=""/>
          <p:cNvPicPr/>
          <p:nvPr/>
        </p:nvPicPr>
        <p:blipFill>
          <a:blip r:embed="rId2"/>
          <a:stretch/>
        </p:blipFill>
        <p:spPr>
          <a:xfrm>
            <a:off x="800280" y="3295800"/>
            <a:ext cx="7543800" cy="31334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3"/>
          <a:stretch/>
        </p:blipFill>
        <p:spPr>
          <a:xfrm>
            <a:off x="3376440" y="12142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4"/>
          <a:stretch/>
        </p:blipFill>
        <p:spPr>
          <a:xfrm>
            <a:off x="3357720" y="171468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5"/>
          <a:stretch/>
        </p:blipFill>
        <p:spPr>
          <a:xfrm>
            <a:off x="3375000" y="2247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6"/>
          <a:stretch/>
        </p:blipFill>
        <p:spPr>
          <a:xfrm>
            <a:off x="7377120" y="1231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7"/>
          <a:stretch/>
        </p:blipFill>
        <p:spPr>
          <a:xfrm>
            <a:off x="7358040" y="1731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8"/>
          <a:stretch/>
        </p:blipFill>
        <p:spPr>
          <a:xfrm>
            <a:off x="7375680" y="226548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9"/>
          <a:stretch/>
        </p:blipFill>
        <p:spPr>
          <a:xfrm>
            <a:off x="264312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10"/>
          <a:stretch/>
        </p:blipFill>
        <p:spPr>
          <a:xfrm>
            <a:off x="350028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11"/>
          <a:stretch/>
        </p:blipFill>
        <p:spPr>
          <a:xfrm>
            <a:off x="435780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12"/>
          <a:stretch/>
        </p:blipFill>
        <p:spPr>
          <a:xfrm>
            <a:off x="519264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13"/>
          <a:stretch/>
        </p:blipFill>
        <p:spPr>
          <a:xfrm>
            <a:off x="614376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14"/>
          <a:stretch/>
        </p:blipFill>
        <p:spPr>
          <a:xfrm>
            <a:off x="7000920" y="3714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"/>
          <p:cNvPicPr/>
          <p:nvPr/>
        </p:nvPicPr>
        <p:blipFill>
          <a:blip r:embed="rId15"/>
          <a:stretch/>
        </p:blipFill>
        <p:spPr>
          <a:xfrm>
            <a:off x="2620800" y="4533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16"/>
          <a:stretch/>
        </p:blipFill>
        <p:spPr>
          <a:xfrm>
            <a:off x="3478320" y="4533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17"/>
          <a:stretch/>
        </p:blipFill>
        <p:spPr>
          <a:xfrm>
            <a:off x="4335480" y="4533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18"/>
          <a:stretch/>
        </p:blipFill>
        <p:spPr>
          <a:xfrm>
            <a:off x="5170320" y="4533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"/>
          <p:cNvPicPr/>
          <p:nvPr/>
        </p:nvPicPr>
        <p:blipFill>
          <a:blip r:embed="rId19"/>
          <a:stretch/>
        </p:blipFill>
        <p:spPr>
          <a:xfrm>
            <a:off x="6121440" y="4533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20"/>
          <a:stretch/>
        </p:blipFill>
        <p:spPr>
          <a:xfrm>
            <a:off x="6978600" y="4533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21"/>
          <a:stretch/>
        </p:blipFill>
        <p:spPr>
          <a:xfrm>
            <a:off x="1928880" y="548316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22"/>
          <a:stretch/>
        </p:blipFill>
        <p:spPr>
          <a:xfrm>
            <a:off x="4768920" y="547524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"/>
          <p:cNvPicPr/>
          <p:nvPr/>
        </p:nvPicPr>
        <p:blipFill>
          <a:blip r:embed="rId23"/>
          <a:stretch/>
        </p:blipFill>
        <p:spPr>
          <a:xfrm>
            <a:off x="7223040" y="548316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24"/>
          <a:stretch/>
        </p:blipFill>
        <p:spPr>
          <a:xfrm>
            <a:off x="1928880" y="596412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" descr=""/>
          <p:cNvPicPr/>
          <p:nvPr/>
        </p:nvPicPr>
        <p:blipFill>
          <a:blip r:embed="rId25"/>
          <a:stretch/>
        </p:blipFill>
        <p:spPr>
          <a:xfrm>
            <a:off x="4768920" y="5954760"/>
            <a:ext cx="409680" cy="428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" descr=""/>
          <p:cNvPicPr/>
          <p:nvPr/>
        </p:nvPicPr>
        <p:blipFill>
          <a:blip r:embed="rId26"/>
          <a:stretch/>
        </p:blipFill>
        <p:spPr>
          <a:xfrm>
            <a:off x="7223040" y="5964120"/>
            <a:ext cx="409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1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925120" cy="3591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2" descr=""/>
          <p:cNvPicPr/>
          <p:nvPr/>
        </p:nvPicPr>
        <p:blipFill>
          <a:blip r:embed="rId2"/>
          <a:stretch/>
        </p:blipFill>
        <p:spPr>
          <a:xfrm>
            <a:off x="114480" y="4762440"/>
            <a:ext cx="8915400" cy="18097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"/>
          <p:cNvPicPr/>
          <p:nvPr/>
        </p:nvPicPr>
        <p:blipFill>
          <a:blip r:embed="rId3"/>
          <a:stretch/>
        </p:blipFill>
        <p:spPr>
          <a:xfrm>
            <a:off x="1928880" y="14112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"/>
          <p:cNvPicPr/>
          <p:nvPr/>
        </p:nvPicPr>
        <p:blipFill>
          <a:blip r:embed="rId4"/>
          <a:stretch/>
        </p:blipFill>
        <p:spPr>
          <a:xfrm>
            <a:off x="4857840" y="1428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5"/>
          <a:stretch/>
        </p:blipFill>
        <p:spPr>
          <a:xfrm>
            <a:off x="7786800" y="14288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"/>
          <p:cNvPicPr/>
          <p:nvPr/>
        </p:nvPicPr>
        <p:blipFill>
          <a:blip r:embed="rId6"/>
          <a:stretch/>
        </p:blipFill>
        <p:spPr>
          <a:xfrm>
            <a:off x="1911240" y="18194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"/>
          <p:cNvPicPr/>
          <p:nvPr/>
        </p:nvPicPr>
        <p:blipFill>
          <a:blip r:embed="rId7"/>
          <a:stretch/>
        </p:blipFill>
        <p:spPr>
          <a:xfrm>
            <a:off x="4857840" y="18367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8"/>
          <a:stretch/>
        </p:blipFill>
        <p:spPr>
          <a:xfrm>
            <a:off x="7643880" y="18367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9"/>
          <a:stretch/>
        </p:blipFill>
        <p:spPr>
          <a:xfrm>
            <a:off x="428760" y="342900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"/>
          <p:cNvPicPr/>
          <p:nvPr/>
        </p:nvPicPr>
        <p:blipFill>
          <a:blip r:embed="rId10"/>
          <a:stretch/>
        </p:blipFill>
        <p:spPr>
          <a:xfrm>
            <a:off x="357120" y="52149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11"/>
          <a:stretch/>
        </p:blipFill>
        <p:spPr>
          <a:xfrm>
            <a:off x="285840" y="5643720"/>
            <a:ext cx="3429000" cy="3236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"/>
          <p:cNvPicPr/>
          <p:nvPr/>
        </p:nvPicPr>
        <p:blipFill>
          <a:blip r:embed="rId12"/>
          <a:stretch/>
        </p:blipFill>
        <p:spPr>
          <a:xfrm>
            <a:off x="285840" y="6000840"/>
            <a:ext cx="34290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" descr=""/>
          <p:cNvPicPr/>
          <p:nvPr/>
        </p:nvPicPr>
        <p:blipFill>
          <a:blip r:embed="rId1"/>
          <a:stretch/>
        </p:blipFill>
        <p:spPr>
          <a:xfrm>
            <a:off x="119160" y="2433600"/>
            <a:ext cx="8905680" cy="1990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2286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" descr=""/>
          <p:cNvPicPr/>
          <p:nvPr/>
        </p:nvPicPr>
        <p:blipFill>
          <a:blip r:embed="rId2"/>
          <a:stretch/>
        </p:blipFill>
        <p:spPr>
          <a:xfrm>
            <a:off x="3867120" y="1862280"/>
            <a:ext cx="1409760" cy="4209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3"/>
          <a:stretch/>
        </p:blipFill>
        <p:spPr>
          <a:xfrm>
            <a:off x="4875120" y="26971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"/>
          <p:cNvPicPr/>
          <p:nvPr/>
        </p:nvPicPr>
        <p:blipFill>
          <a:blip r:embed="rId4"/>
          <a:stretch/>
        </p:blipFill>
        <p:spPr>
          <a:xfrm>
            <a:off x="4978440" y="30877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4" descr=""/>
          <p:cNvPicPr/>
          <p:nvPr/>
        </p:nvPicPr>
        <p:blipFill>
          <a:blip r:embed="rId5"/>
          <a:stretch/>
        </p:blipFill>
        <p:spPr>
          <a:xfrm>
            <a:off x="4865760" y="34988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"/>
          <p:cNvPicPr/>
          <p:nvPr/>
        </p:nvPicPr>
        <p:blipFill>
          <a:blip r:embed="rId6"/>
          <a:stretch/>
        </p:blipFill>
        <p:spPr>
          <a:xfrm>
            <a:off x="4857840" y="39276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" descr=""/>
          <p:cNvPicPr/>
          <p:nvPr/>
        </p:nvPicPr>
        <p:blipFill>
          <a:blip r:embed="rId7"/>
          <a:stretch/>
        </p:blipFill>
        <p:spPr>
          <a:xfrm>
            <a:off x="4978440" y="433872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"/>
          <p:cNvPicPr/>
          <p:nvPr/>
        </p:nvPicPr>
        <p:blipFill>
          <a:blip r:embed="rId8"/>
          <a:stretch/>
        </p:blipFill>
        <p:spPr>
          <a:xfrm>
            <a:off x="4865760" y="47671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"/>
          <p:cNvPicPr/>
          <p:nvPr/>
        </p:nvPicPr>
        <p:blipFill>
          <a:blip r:embed="rId9"/>
          <a:stretch/>
        </p:blipFill>
        <p:spPr>
          <a:xfrm>
            <a:off x="4865760" y="51418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4" descr=""/>
          <p:cNvPicPr/>
          <p:nvPr/>
        </p:nvPicPr>
        <p:blipFill>
          <a:blip r:embed="rId10"/>
          <a:stretch/>
        </p:blipFill>
        <p:spPr>
          <a:xfrm>
            <a:off x="4888080" y="5570640"/>
            <a:ext cx="37908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15:3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